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85B-5B2B-4690-BEF7-92C7EF90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18B-E0FC-4BC1-9139-44A53227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E62-FC37-41EB-A0F4-738E2011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C42-07EC-4647-A6A2-5DE6BB51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87BD9-946E-4568-95CF-72D0480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CC8E-C309-4FFD-95C0-74F5D8A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C061-C643-47E9-A13E-F4A911A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142A-2C9F-4F90-AC93-785DD9A8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9AB0C-8663-4C16-A6B6-54B5280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78D53-041F-458B-8FBB-E65663A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6554E-D4D7-47D4-A123-1079149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CF9-E074-4C2C-B6CB-3D8518BB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57F7-EDB4-47EF-831D-082A266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899B-5E3D-40E5-9CFA-7873A3F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412A7-CB41-4080-8CE5-D055A38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009CE-07EA-4364-9DB5-71B2E9EC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1CE87-0593-40C9-BE66-159D9C5B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CE1-AA42-479A-AF0E-42DAD14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C82-76F6-45A3-9CBB-5F4FCFAF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E9E-A006-41DF-9B83-49A1D69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C9C-5CDF-49C3-869C-CCD2E9C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F2D-E44A-4EDB-92DA-4984C48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9D8-BEB7-44AB-86A8-F5765090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FCF-2C6D-469A-88C6-2DB7CFC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B1A-1DA1-4634-91A4-9A3CDEF97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94F2-AAAC-4B82-9062-E0C18B929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tic.luxitrend.com/cache-image/2011/03/Nuance-Luxury-Bedroom-Interior-Mans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Henry mor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4419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la co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3306600"/>
            <a:ext cx="51051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o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o.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124080" y="2336760"/>
            <a:ext cx="55436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grabnde,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05320" y="2452680"/>
            <a:ext cx="51814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onderno,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Nuance Luxury Bedroom Interior Man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051000"/>
            <a:ext cx="563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619360" y="2362320"/>
            <a:ext cx="6524640" cy="425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sala estope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itomod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2749680"/>
            <a:ext cx="58672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e,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52680" y="2436840"/>
            <a:ext cx="5324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itio, bell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1:06Z</dcterms:created>
  <dc:creator>morrisontho</dc:creator>
  <dc:description/>
  <dc:language>en-US</dc:language>
  <cp:lastModifiedBy>morrisontho</cp:lastModifiedBy>
  <dcterms:modified xsi:type="dcterms:W3CDTF">2012-03-16T13:17:34Z</dcterms:modified>
  <cp:revision>6</cp:revision>
  <dc:subject/>
  <dc:title>La casa </dc:title>
</cp:coreProperties>
</file>